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E4D0-FC7B-4AE9-855D-1CBEEB64E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1336-2556-4070-9D0A-DCF147E048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82D9-ADBA-4B19-AA94-B5C839B5B7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2B77-2318-48F3-9BCB-E3A5ADACA4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7DCB-11F0-4498-8FE9-2A69516B3D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2A2B-A4FD-426D-A8DC-24B4829CF1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39B9-CE64-4DD9-85FA-84990E3222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83A3-B463-4779-BA17-81554CAE78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1DE5-7C44-4589-945C-5B335F0E58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4E4F-E5A2-4DAF-AAC6-77DFCF9608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8710-0B0B-4A4D-9C20-0AD643B4FD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5F03-7166-452A-83F2-85683C8A1E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54C6-35B6-421E-8B88-CDC08938E6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EFCB-0B82-4793-8628-2ECB3D47A3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7C9A-DE00-4962-922E-D7994908C2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1AD7-B13A-4573-AE71-1CB2E093C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C7FA-4882-4084-A050-B0CEA4AC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721F-1A99-432A-9F0D-BD8A10066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FB0C-8310-4C31-8DB1-7861F7B30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0638-ABD4-4802-B953-F55C7997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42E5-D345-453A-8EF1-2B74DDD0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9B73-08D6-474F-AF8C-9796EBC9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251E-E638-4F47-BD02-BC7BCA26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CA7A-2A07-45F1-BC17-DFE6DEE1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6BC0-E895-4F86-82AE-65493BEF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C8A2-71FE-4C2B-A2B9-FE469B6D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D88F-37A5-4A60-A3E6-490E94D0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41D7-3A63-41EE-9E41-0F26F8554E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atom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z at the end for those who need to take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Joint 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l (Internal) R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erior surface moves toward mid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eral (External) R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erior surface moves away from mid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4" descr="rotation"/>
          <p:cNvPicPr/>
          <p:nvPr/>
        </p:nvPicPr>
        <p:blipFill>
          <a:blip r:embed="rId1"/>
          <a:stretch/>
        </p:blipFill>
        <p:spPr>
          <a:xfrm>
            <a:off x="4419720" y="1219320"/>
            <a:ext cx="4363920" cy="5502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Joint 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2103120"/>
            <a:ext cx="404172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ing forward on plane parallel to gr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nch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ing backward on plane parallel to gr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 lawn mower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protract-retract2"/>
          <p:cNvPicPr/>
          <p:nvPr/>
        </p:nvPicPr>
        <p:blipFill>
          <a:blip r:embed="rId1"/>
          <a:stretch/>
        </p:blipFill>
        <p:spPr>
          <a:xfrm>
            <a:off x="4572000" y="1981080"/>
            <a:ext cx="4554360" cy="4167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Joint 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0280" y="2103120"/>
            <a:ext cx="396864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ward R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erior ang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wnward R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move upw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move downw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4" descr="elevation-depression"/>
          <p:cNvPicPr/>
          <p:nvPr/>
        </p:nvPicPr>
        <p:blipFill>
          <a:blip r:embed="rId1"/>
          <a:stretch/>
        </p:blipFill>
        <p:spPr>
          <a:xfrm>
            <a:off x="4572000" y="1600200"/>
            <a:ext cx="4095720" cy="5029200"/>
          </a:xfrm>
          <a:prstGeom prst="rect">
            <a:avLst/>
          </a:prstGeom>
          <a:ln w="0">
            <a:noFill/>
          </a:ln>
        </p:spPr>
      </p:pic>
      <p:sp>
        <p:nvSpPr>
          <p:cNvPr id="88" name="Oval 5"/>
          <p:cNvSpPr/>
          <p:nvPr/>
        </p:nvSpPr>
        <p:spPr>
          <a:xfrm>
            <a:off x="5867280" y="312408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6"/>
          <p:cNvSpPr/>
          <p:nvPr/>
        </p:nvSpPr>
        <p:spPr>
          <a:xfrm>
            <a:off x="6629400" y="312408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6705720" y="3352680"/>
            <a:ext cx="609480" cy="152640"/>
          </a:xfrm>
          <a:custGeom>
            <a:avLst/>
            <a:gdLst>
              <a:gd name="textAreaLeft" fmla="*/ 106560 w 609480"/>
              <a:gd name="textAreaRight" fmla="*/ 442080 w 60948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5791320" y="3352680"/>
            <a:ext cx="609480" cy="152640"/>
          </a:xfrm>
          <a:custGeom>
            <a:avLst/>
            <a:gdLst>
              <a:gd name="textAreaLeft" fmla="*/ 106560 w 609480"/>
              <a:gd name="textAreaRight" fmla="*/ 442080 w 60948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Joint 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al Deviation (AB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 wrist outwards or away from midline of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iate towards radi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lnar Deviation (AD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 wrist inwards or towards the midline of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iate towards ul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4" descr="radial-unlar dev"/>
          <p:cNvPicPr/>
          <p:nvPr/>
        </p:nvPicPr>
        <p:blipFill>
          <a:blip r:embed="rId1"/>
          <a:stretch/>
        </p:blipFill>
        <p:spPr>
          <a:xfrm>
            <a:off x="4343400" y="1828800"/>
            <a:ext cx="4788000" cy="4471920"/>
          </a:xfrm>
          <a:prstGeom prst="rect">
            <a:avLst/>
          </a:prstGeom>
          <a:ln w="0">
            <a:noFill/>
          </a:ln>
        </p:spPr>
      </p:pic>
      <p:sp>
        <p:nvSpPr>
          <p:cNvPr id="95" name="Line 5"/>
          <p:cNvSpPr/>
          <p:nvPr/>
        </p:nvSpPr>
        <p:spPr>
          <a:xfrm flipH="1" flipV="1">
            <a:off x="6705720" y="525744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7087680" y="54100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Radi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 flipV="1">
            <a:off x="5791320" y="5257440"/>
            <a:ext cx="53316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5092200" y="5334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Ul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Joint 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76680" y="21337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rcum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tin meaning “around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ation of flexion/extension and abduction/ad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circumduction"/>
          <p:cNvPicPr/>
          <p:nvPr/>
        </p:nvPicPr>
        <p:blipFill>
          <a:blip r:embed="rId1"/>
          <a:stretch/>
        </p:blipFill>
        <p:spPr>
          <a:xfrm>
            <a:off x="3908520" y="1828800"/>
            <a:ext cx="5235480" cy="263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s are i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agittal Pl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ex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ex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arflex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rsiflex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ments are 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rontal Pl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lnar dev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al dev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ward ro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wnward ro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teral flex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ments are 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ransverse Pl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al ro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rnal ro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ab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ad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unk Ro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0280" y="1600200"/>
            <a:ext cx="3754440" cy="42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ex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rcum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4720" y="1671480"/>
            <a:ext cx="3608280" cy="388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res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eral b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ex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ar/dorsal flex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152360" y="457200"/>
            <a:ext cx="7280280" cy="63244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rectional Terms continu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l (centr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ward or in i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psilat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same side of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925440" y="2565000"/>
            <a:ext cx="4761000" cy="32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rnal (peripher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ward or on ex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alat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opposite side of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>
            <a:off x="3200400" y="2286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6"/>
          <p:cNvSpPr/>
          <p:nvPr/>
        </p:nvSpPr>
        <p:spPr>
          <a:xfrm>
            <a:off x="3200400" y="3429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838080" y="-3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sic Joint Ac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ex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ing a decrease in ang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ing an increase in ang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flexion"/>
          <p:cNvPicPr/>
          <p:nvPr/>
        </p:nvPicPr>
        <p:blipFill>
          <a:blip r:embed="rId1"/>
          <a:stretch/>
        </p:blipFill>
        <p:spPr>
          <a:xfrm>
            <a:off x="2666880" y="304920"/>
            <a:ext cx="6477120" cy="6553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Joint 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2670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duction (AB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ing away from midline of the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“take away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uction (AD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ing towards the midline of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“add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hip abd-add"/>
          <p:cNvPicPr/>
          <p:nvPr/>
        </p:nvPicPr>
        <p:blipFill>
          <a:blip r:embed="rId1"/>
          <a:stretch/>
        </p:blipFill>
        <p:spPr>
          <a:xfrm>
            <a:off x="6934320" y="1676520"/>
            <a:ext cx="2095560" cy="2895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shld_abd-add"/>
          <p:cNvPicPr/>
          <p:nvPr/>
        </p:nvPicPr>
        <p:blipFill>
          <a:blip r:embed="rId2"/>
          <a:stretch/>
        </p:blipFill>
        <p:spPr>
          <a:xfrm>
            <a:off x="4297320" y="1676520"/>
            <a:ext cx="1920960" cy="28954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4347360" y="45720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hou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7927200" y="4572000"/>
            <a:ext cx="63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7623000" y="617220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n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9" descr="finger abd-add"/>
          <p:cNvPicPr/>
          <p:nvPr/>
        </p:nvPicPr>
        <p:blipFill>
          <a:blip r:embed="rId3"/>
          <a:stretch/>
        </p:blipFill>
        <p:spPr>
          <a:xfrm>
            <a:off x="5943600" y="4191120"/>
            <a:ext cx="1644480" cy="2468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Joint 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103120"/>
            <a:ext cx="404172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ting hand/forearm later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ld the soup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ting hand/forearm medi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ur the soup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4" descr="pronation-supination"/>
          <p:cNvPicPr/>
          <p:nvPr/>
        </p:nvPicPr>
        <p:blipFill>
          <a:blip r:embed="rId1"/>
          <a:stretch/>
        </p:blipFill>
        <p:spPr>
          <a:xfrm>
            <a:off x="4572000" y="1960560"/>
            <a:ext cx="4156200" cy="4516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Joint 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0280" y="2103480"/>
            <a:ext cx="396864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arflex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 toes/foot down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 on tip toe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rsiflex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 toes/foot up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ot off the gas pedal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4" descr="pf-df"/>
          <p:cNvPicPr/>
          <p:nvPr/>
        </p:nvPicPr>
        <p:blipFill>
          <a:blip r:embed="rId1"/>
          <a:stretch/>
        </p:blipFill>
        <p:spPr>
          <a:xfrm>
            <a:off x="4572000" y="1676520"/>
            <a:ext cx="4203720" cy="4876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Joint 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0280" y="2103120"/>
            <a:ext cx="396864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ment of sole of foot in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ment of sole of foot out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4" descr="inv-ever"/>
          <p:cNvPicPr/>
          <p:nvPr/>
        </p:nvPicPr>
        <p:blipFill>
          <a:blip r:embed="rId1"/>
          <a:stretch/>
        </p:blipFill>
        <p:spPr>
          <a:xfrm>
            <a:off x="5562720" y="1219320"/>
            <a:ext cx="2092320" cy="5378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20:29:04Z</dcterms:created>
  <dc:creator>ashansel</dc:creator>
  <dc:description/>
  <dc:language>en-US</dc:language>
  <cp:lastModifiedBy>Andrew S. Hansell</cp:lastModifiedBy>
  <dcterms:modified xsi:type="dcterms:W3CDTF">2013-09-10T11:11:42Z</dcterms:modified>
  <cp:revision>9</cp:revision>
  <dc:subject/>
  <dc:title>Anatomy</dc:title>
</cp:coreProperties>
</file>